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C0C9-4AB5-4F37-B048-298D0EFF0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5FD1-DE73-4CA2-9EC2-70F00F57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0D2F-5902-44FE-93FB-9554CF60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C370-BE8F-4CE5-B415-24E77EC05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6D90-095E-45FB-B6E8-7B74EA41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964B-2B05-46B3-B4FF-D973F66F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5F50-5174-48C1-85FA-2901E3A3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8B9A-7167-41FD-AF7E-6456E73C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AB51-245D-4F25-BB01-B9C75A71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604D-B901-47C7-9096-9FA4588E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D397-213F-4255-8ABA-B7904178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3905-8220-4E62-B6B2-2322F53D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49C3-0C49-4B7B-8FD9-B2DD0351C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following 3 titl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did you like the b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k Gi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illing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n and the Art of Faki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en and the Art of Faking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an’s best character trai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istic F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se titles is the most realist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 the least realist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etails or examples can you give to support your answ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k Gi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urprised you the most about this book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66880" y="35812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Killing S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ne word would you use to describe this boo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test box tool to write your response on this scre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4:56:47Z</dcterms:created>
  <dc:creator>m</dc:creator>
  <dc:description/>
  <dc:language>en-US</dc:language>
  <cp:lastModifiedBy>m</cp:lastModifiedBy>
  <dcterms:modified xsi:type="dcterms:W3CDTF">2010-04-12T15:37:33Z</dcterms:modified>
  <cp:revision>3</cp:revision>
  <dc:subject/>
  <dc:title>Of the following 3 titles which did you like the best?</dc:title>
</cp:coreProperties>
</file>